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EA93-BC80-484C-BC25-8C33432A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C73-19A3-46F4-B4CF-C0448616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399E-5868-4D25-B8B8-664A5344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02FE-9AC0-401B-A16B-057A756D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2E89-0475-40A6-8239-3A232F60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9B5-ECDF-4DEC-9619-C605FC25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021-4F4E-4780-9935-BCE208674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79BD-129F-4CD1-9520-2CC8D2F7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384C-2408-4E65-A684-65881E4E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6669-9FD8-4649-BEE0-666BC2C6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52D-BC9D-406B-B505-E71CD1C80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AB9-B2E7-4C1D-AAAF-3CA717C6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812-9775-439E-A018-51702D04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D4C-5DE0-492C-8086-AB83ACDB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80E-59E8-4758-8DE6-23E80DAF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D3C-8355-4A42-A318-81996E28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7D8-8E43-4BDE-9EA0-D487EB54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FFB-A438-4A45-BA91-AB66251B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E7F-4DD5-4246-913D-6D5858F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9C4-2786-457B-AF0A-F0B2391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9CB-F0E0-49A5-8544-61E57BA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F43-C248-4BEA-BA1E-785E354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D83-D16E-453F-B204-522E163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B26-8A86-4D2D-A907-1461B46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875-2E44-4F28-9E5B-59647676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139D-0396-4AE4-AB11-3687ACEA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.01: Distance and 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quar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(7, 3) and (1, 3).  At what point do the diagonal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the vertices (1, -2)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-2), and (5, 3).  What is th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- 3y = 16                    ½ x + y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two poi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ielle is 6 miles east and 14 miles south of the library.  Ashley is 8 miles north and 12 miles west.  Which girl is closer to the library, and by how many m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ran 2 miles east and 3 miles south of the town center.  Marcus ran 1 mile north and 5 miles west of the town center.  If they want to meet halfway, how far would Marcus have to run to get to the meeting 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stance between the x-axis and the line y = 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rcle has endpoints at (-4, -5) and (7, 3).  How long is the radius of the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X is between points W and Y. 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5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s 8 then how long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914400" y="1447920"/>
                <a:ext cx="65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838080" y="1981080"/>
                <a:ext cx="687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260880" y="1447920"/>
                <a:ext cx="687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int Q of the se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(1, -7) and the midpoint is (-2, -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6264360" y="803160"/>
                <a:ext cx="654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46:10Z</dcterms:created>
  <dc:creator>Sharon Fieldman</dc:creator>
  <dc:description/>
  <dc:language>en-US</dc:language>
  <cp:lastModifiedBy>sfieldman</cp:lastModifiedBy>
  <dcterms:modified xsi:type="dcterms:W3CDTF">2011-05-04T14:23:06Z</dcterms:modified>
  <cp:revision>17</cp:revision>
  <dc:subject/>
  <dc:title>Goal 2.01: Distance and Midpoint</dc:title>
</cp:coreProperties>
</file>